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533040"/>
            <a:ext cx="77724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53304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53304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533040"/>
            <a:ext cx="25023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533040"/>
            <a:ext cx="25023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533040"/>
            <a:ext cx="25023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DB7D-D228-46B8-96A4-15B1C2EC8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F929-4A6E-404F-9FD5-4E320A315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579C-0A5F-48CC-9443-4EE76788D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7407-3C80-4961-9A78-0443487BE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96F3-0EEC-4F3F-911C-4425F8BAA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ED23-0330-4853-9039-FEC86ABFD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53304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99D0-80B3-4F79-AD27-33DB1CCE3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353304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2457-9780-4E43-B15C-2C760FCD3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533040"/>
            <a:ext cx="77724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6862-F97F-45B8-9C2B-ECD85F3C4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533040"/>
            <a:ext cx="77724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B9D8-7A20-4A5B-871A-B9D288273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53304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353304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E8FD-B9E0-4F87-ADA3-FF2DD7CB1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533040"/>
            <a:ext cx="25023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3533040"/>
            <a:ext cx="25023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3533040"/>
            <a:ext cx="250236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9F72-8539-4DBF-A240-EE88426DC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53304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53304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533040"/>
            <a:ext cx="77724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lvl="1" marL="527400" indent="-2026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lvl="2" marL="811440" indent="-16200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lvl="3" marL="1135800" indent="-162000">
              <a:spcBef>
                <a:spcPts val="799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lvl="4" marL="1460520" indent="-162000">
              <a:spcBef>
                <a:spcPts val="799"/>
              </a:spcBef>
              <a:buClr>
                <a:srgbClr val="3333cc"/>
              </a:buClr>
              <a:buFont typeface="Tahoma"/>
              <a:buChar char="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lvl="5" marL="1460520" indent="-162000">
              <a:spcBef>
                <a:spcPts val="799"/>
              </a:spcBef>
              <a:buClr>
                <a:srgbClr val="000000"/>
              </a:buClr>
              <a:buFont typeface="Tahoma"/>
              <a:buChar char="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lvl="6" marL="1460520" indent="-162000">
              <a:spcBef>
                <a:spcPts val="799"/>
              </a:spcBef>
              <a:buClr>
                <a:srgbClr val="000000"/>
              </a:buClr>
              <a:buFont typeface="Tahoma"/>
              <a:buChar char="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155520" y="5891040"/>
            <a:ext cx="8836200" cy="835200"/>
            <a:chOff x="155520" y="5891040"/>
            <a:chExt cx="8836200" cy="835200"/>
          </a:xfrm>
        </p:grpSpPr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155520" y="5891040"/>
              <a:ext cx="144468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1523880" y="6670800"/>
              <a:ext cx="7467840" cy="0"/>
            </a:xfrm>
            <a:prstGeom prst="line">
              <a:avLst/>
            </a:prstGeom>
            <a:ln w="19080">
              <a:solidFill>
                <a:srgbClr val="0080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"/>
          <p:cNvSpPr/>
          <p:nvPr/>
        </p:nvSpPr>
        <p:spPr>
          <a:xfrm>
            <a:off x="-27360" y="6618240"/>
            <a:ext cx="50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ahoma"/>
              </a:rPr>
              <a:t>Copyright © 2003 Center for Farm Financial Management, University of Minneso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6705720" y="5943600"/>
            <a:ext cx="213336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DB815-6031-487F-A4B0-863F0AD43C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Financial Plan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Your lender wants to know if your business will be financially successful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291600" y="3733920"/>
            <a:ext cx="662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Your spouse wants to know to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Balance Sheet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A snapshot of how funds are invested in a business (assets) and the financing methods used (liabilities and owner’s equity) at a given point in time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Balance Sheet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Most producers have an existing balance sheet because lenders require one annually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If you need to develop or update your balance sheet you can use FINPACK or use the Guide worksheet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Income Statement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An income statement measures how much income the business is making in relation to the resources used to produce that income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Income Statement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Not all producers have an accrual income statement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Should develop one for your business plan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Can use FINPACK or the Guide worksheet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ash Flow Plan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A cash flow plan is a projection of all sources and uses of cash during a specified planning period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It evaluates the business’s ability to meet loan payments and other financial obligations on time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ash Flow Plan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Most producers have an annual cash flow plan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If you need to develop or update your cash flow plan you can use FINPACK or use the Guide worksheet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Financial Plan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Include a balance sheet, income statement, and cash flow plan in your business plan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Financial Plan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10816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A written description of the strengths of these three measurements of your financial projections should also be included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Also describe the assumptions you used to make your financial projections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Your Financial Number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Generating your financial statements from  a program like FINPACK will make development of your business plan easier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FINPACK provides not only a balance sheet, income statement, and cash flow, but also financial ratios to help evaluate the meaning of your financial numbers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Asset Management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Your financial plan should also describe how you acquire and manage capital assets - purchase, lease, or custom hire. 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How efficiently are assets being used?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Financial Plan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09340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In many cases, the financial plan is the most important part of your business plan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The financial plan is particularly important if you are proposing a major change or a new business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Asset Management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An analysis of your investment in capital assets relative to the size of your business may be valuable as you plan the future of your business. 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Asset management is often the best indicator of future net worth growth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apital Required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The final part of your financial plan should describe how much money you need to implement your business plan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Describe the sources of your financing.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Present your financing request if you have one. 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Resource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Guide worksheets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Balance sheet – worksheet 4.35</a:t>
            </a: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Projected profitability - worksheet 4.33</a:t>
            </a: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Cash flow – worksheet 4.34</a:t>
            </a: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Resources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FINPACK Business Plan software</a:t>
            </a: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Balance sheet</a:t>
            </a: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Asset management</a:t>
            </a: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Projected profitability</a:t>
            </a: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Cash flow</a:t>
            </a: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Long range projections</a:t>
            </a: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Historical trends</a:t>
            </a: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Benchmarks</a:t>
            </a: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Capital required</a:t>
            </a: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Financial Plan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What do you need to include in your business plan to communicate financial viability?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Financial Plan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Financial viability is generally evaluated from three perspectives: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Solvency</a:t>
            </a: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Profitability</a:t>
            </a: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Liquidity</a:t>
            </a: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Financial Plan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Solvency evaluates changes in net worth 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growth in your retirement account</a:t>
            </a: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Profitability monitor earnings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ability to generate income</a:t>
            </a: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Liquidity estimates cash flow and debt repayment ability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paying the bills when due</a:t>
            </a: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Solvency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Compares the assets invested (what you own) in the business with the sources of capital (liabilities – what you owe and your net worth)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Requires an up to date balance sheet 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Profitability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Measures the earnings of the business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Requires an accrual income statement 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Optionally use average net income from 3 years Schedule F tax forms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Liquidity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Measures the ability of the business to generate cash to meet short term obligations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Requires a cash flow statement, usually projected for next year or more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Financial Plan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The tools used to communicate a  business’s financial situation are:</a:t>
            </a: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Balance sheet - solvency</a:t>
            </a: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Income statement - profitability</a:t>
            </a: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Cash flow plan – liquidity</a:t>
            </a: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5T20:27:03Z</dcterms:created>
  <dc:creator>Applied Economics</dc:creator>
  <dc:description/>
  <dc:language>en-US</dc:language>
  <cp:lastModifiedBy>M S O</cp:lastModifiedBy>
  <cp:lastPrinted>2001-06-07T14:32:23Z</cp:lastPrinted>
  <dcterms:modified xsi:type="dcterms:W3CDTF">2008-10-19T18:36:21Z</dcterms:modified>
  <cp:revision>193</cp:revision>
  <dc:subject/>
  <dc:title>No Slide Title</dc:title>
</cp:coreProperties>
</file>